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C0CA-DC02-4A61-B9C0-2A5591B1E1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D577-FE67-48DD-9805-CA0B9AA2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59AD-48CE-4AC0-9644-7115E16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74D7-29F0-4E3E-824F-10E077C2A2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4465-7676-4221-9105-E3175BAE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DEA1-6955-409D-8324-D32D7D70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DB8B8-875B-450C-B79D-A9022041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70C7-F753-4E65-AAD1-C4D748F4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FDA8-A8B9-4882-9003-6CC0136A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BAF19-28FD-4915-82E6-7546DD11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D7F8-D696-4F7A-8EF4-693CCCA9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19932-E70C-4A55-8168-4F97A78A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95D2-D982-43F6-B8A9-1F2EF39DA709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&lt;Product&gt;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approach sloga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Presenter’s 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8136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Te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D1AB-F818-488F-A3F5-36D3080F17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04640"/>
            <a:ext cx="2960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 &lt;Product&gt;</a:t>
            </a: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us pre &lt;Milest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1280" y="2065320"/>
            <a:ext cx="12301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nclude 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(from S0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49440" y="1628640"/>
          <a:ext cx="572292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628640"/>
                    <a:ext cx="57229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 flipV="1">
            <a:off x="1074600" y="2050560"/>
            <a:ext cx="4857840" cy="30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19CFC-A738-42D1-91C3-98808ED4D0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4277-10F6-4B30-8095-97C703820D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last milestone&gt;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xx.xx.xx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25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vs. xx.xx.xx as of M1)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vs. xx.xx.xx as of M1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0F6E-234C-40C4-82C5-C6FCCA9D39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Improvements on red ratings from last Quality Gate PH par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d: &lt;“TTM”, “Software” etc.&gt;: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scription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&lt;improvement&gt;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&lt;improvement&gt;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d: Cost vs. Target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BOM target missed by 2 Euro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BOM reduced by 1 Eur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Further DTC measures to be evalua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0DF1-F3A7-4DBD-A3A4-BBE6658F7E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Text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-&gt; Impact on TTM, cost, quality or other produc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Tex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C861-3590-4FC3-89D3-CBB3CFA05B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Option 1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645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6560" y="836640"/>
            <a:ext cx="396108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Pro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836640"/>
            <a:ext cx="417672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933720"/>
            <a:ext cx="8351640" cy="2665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quired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; also state effort/cost of 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EE36-7CAF-485F-8DD2-597A52B520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Option 2 (recommended)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3645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560" y="836640"/>
            <a:ext cx="396108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Pro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836640"/>
            <a:ext cx="417672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33720"/>
            <a:ext cx="8351640" cy="2665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quired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; also state effort/cost of 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9539-8C79-4039-944B-9529662741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cisions, resources, etc.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concrete actions only, e.g. not „higher  management attention“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5D75-BEEA-4DFF-8FF4-544DF833E1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E014-2A2C-4874-BA5B-3B5AB0BF21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2040" y="1152360"/>
            <a:ext cx="8356680" cy="5156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 – Not updated-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E3FF-83F1-4E47-80A5-1400170C0C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ssanm</cp:lastModifiedBy>
  <dcterms:modified xsi:type="dcterms:W3CDTF">2006-01-13T14:44:54Z</dcterms:modified>
  <cp:revision>101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64028184</vt:r8>
  </property>
  <property fmtid="{D5CDD505-2E9C-101B-9397-08002B2CF9AE}" pid="3" name="_AuthorEmail">
    <vt:lpwstr>Marcell.Assan@BenQ.com</vt:lpwstr>
  </property>
  <property fmtid="{D5CDD505-2E9C-101B-9397-08002B2CF9AE}" pid="4" name="_AuthorEmailDisplayName">
    <vt:lpwstr>Marcell Assan</vt:lpwstr>
  </property>
  <property fmtid="{D5CDD505-2E9C-101B-9397-08002B2CF9AE}" pid="5" name="_EmailSubject">
    <vt:lpwstr>TPM / TPM BA jf am 9.1.</vt:lpwstr>
  </property>
</Properties>
</file>